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3DB4-620A-4DFD-92F8-C9D8353D48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Структура заболеваем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22A0-FA0C-448C-83F5-40F6C83FC9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котор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нервной 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2F82-5A79-47D7-A9BF-82111C063A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вида заболеваемости (По  Ю. В. Лисицын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F1F7-0A20-4C47-9997-DAA3C0443B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467F-88B2-4F7D-A9A5-1424DC427D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BB06-8AC1-45C7-BA33-E993E66F9B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EE8F-A182-44ED-A664-56F8A3F56A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чинам смертност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требование: правильно указать причину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льдшерская справка не может быть использ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C4E2-DAF3-4C56-8045-A7B0034178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аллам;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субъективного сравнения со здоровьем других лиц данного возраста и пола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68C5-B1DE-4F51-B935-850E15ABB2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питализированная заболеваемость. Учетная форма – карта выбывшего из стациона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BBD0-5438-425F-A437-5B92070E3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о используют 4 группы показа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уровень первичной заболеваемости за год на 100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ровень первичной общей заболеваемости на 1000 ч-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уктура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ратность заболеваний – число заболеваний на 1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1E7C-BC2E-4451-BA0B-D025063735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AB2C-89DD-4D64-838A-DDDEC68E19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8885-521C-45E1-9C61-630BA21691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CB47-6251-44FF-A7BE-E56B23AC9F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9A8A-52F1-4F8A-B95F-12BA26E2D4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44D9-504C-4E2E-8FE3-A61CCE136A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7C6D-67D6-4692-A3CC-FFF83D1F58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за последние 5 лет возрастает смертность практически от всех пр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77C4-1583-4528-A5AF-4D5AD962CC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2CCC-2986-43E5-9587-B954FA332F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B8AB-06BC-42A2-B845-1BFA8CAFA8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C018-964F-4098-8720-6A2EE17414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впервые классифицировали боле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МКБ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МКБ была впервые сформулирована? Как она называла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была утверждена МКБ – 1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МКБ вступила в дей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3 основных вида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виды заболеваемости по обращ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2 метода существуют в изучении общей заболеваем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5 болезней и поражений являются основными причинами смертей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D20E-8428-42A0-971D-8AE7B60CEA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Кит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10 вступила в силу с 01.01.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9DB4-A8F8-4CC5-8C2C-F0A66EAA35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0062-5B10-4835-8D49-1FEAF7C364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7E48-AA49-48E5-AA76-B0A61E3495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F44E-FF08-4D60-9ED1-12C6B65543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ABF8-4606-47C1-A2BB-E753ECD1E4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F3EB-F8BC-42F0-B01A-462B040847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CF6F-2431-46D1-A930-900A6912D6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Болезни эндокринной системы, расстройства питания и нарушение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 – Болезни крови и кроветвор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ласс – Психические расстр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 – Болезни нервной системы  и органов чув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 – Болезни органов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 –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 - Осложнения беременности, родов и послерод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 класс – Врожденные аномалии, порок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класс  – Симптомы, признаки и неточно обозначенные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класс – Несчастные случаи, отравления и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42E7-52E2-47FD-9C66-2B06B6D1FF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D34-76EC-4332-B82C-F2B2CE65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71B-FD54-4A22-A57A-7513874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3DA40-7008-4714-B321-AAECCE9C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42512-0430-441A-AC29-76BE63B0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0730E-8124-40CB-A166-6B24743E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E80EE-B878-4EFF-BB22-ECBA05DE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0338E-6B79-4F5E-B4BB-28BB7A1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51E09-BAE0-4A0B-984B-79A636F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77571-6F13-4B4C-918C-F4A101AD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1A029-AB4E-440C-B97C-69B15F1D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5DF5E-55BE-43EC-9A81-C5FA1AEA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AF2-063C-4810-B468-2D82664D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1F7-DC85-43D5-925B-A24843AA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476D-93EA-4C9D-BBDE-315C801F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8539-C16A-4FB4-9CC4-7C27C4A0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27AD-34B4-47BC-9472-0E43CE5D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0F2F-A56E-40F0-873A-406891F1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0854-9A4A-4266-A418-A49E2D37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3641-EA64-4585-B2C5-2027F0D5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ED76-A8FA-4C4E-894C-B416943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EA3-60B9-4AC1-B77B-8A689F9C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A0BC-D0CF-4A84-9DA0-E23F14DF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FC76-BB55-4F36-8815-BF5298D0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46FB-4BAE-4F6A-9BB2-BD4BA035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C203-F03D-4D3C-9F40-E39EB0F6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16FE-DCEA-4753-946B-D7EDA84F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9F4D-D691-43DC-A9E5-5F6DDD08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07A0-797A-4DC3-972F-1F7CAA7D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A190-1513-47AA-B29B-64DDF0E6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435B-1AC6-49EB-98D0-23E3936A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14748-4938-4399-93D2-1454610F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C27-F8F5-4E63-B125-C4F75847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D343-9788-4CC1-9D45-FE6B785F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1ADE-5626-4B54-842B-57B4A997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4746-0A55-44F0-B3FD-9D87D6C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2225A-4A43-4756-BE6A-2DBA1F6A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B784-F493-4A3F-897B-98E3DAF2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BE80-8DD4-497B-8CD2-491CEBF1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3291-B3D0-425F-89F4-25CACB8A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4D57-5FD2-41D3-9BFF-3ECCF27B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1298D-F978-4FFD-88E4-C9DEC7DC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B265-1FF2-4B0D-8EB0-0B42B016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875-0894-4B79-A8F1-ED048DCF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D97F0-31EB-479F-8768-9D0D7C87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78071-73BA-48B8-8DB7-17C27613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9163C-1C77-4EE3-B3FA-B11F6C0D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E481-F4BF-42EF-922A-641CD299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223A-C996-4571-8FDC-E2D421D5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AB790-8610-4E64-AAF0-B6EABD2F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F3B21-24BB-4C20-A79F-C400B6A1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44B45-7EF3-4D4E-B67F-94F9330E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666C8-5B7F-4EDE-827A-D6F042F6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41F4C-B283-4C4A-905A-A6948C09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677-DD48-4953-9BD9-EE7486DE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34ED7-D46E-4550-95BC-992D7648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964F6-B0DB-49F1-80C5-6D1E3FF9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17C68-F42B-457F-81C3-E902E5C3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65E96-00E7-4DED-B4D8-DC6E4C86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90150-C362-4537-9DD1-5A36C559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0AAA5-7165-48ED-AE99-519B97A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6A64A-B500-46C6-82E3-795AA3B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03B66-EB88-42D6-86FD-4EA9690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9A7A-B70C-4E62-9753-C0FE469A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6E13D-E769-4EF2-8A8A-2583928B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C87-EB01-4318-98F5-103C0122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5F62F-8F6A-4683-B9FD-B288AD62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8DF21-8279-4484-80D4-332595CD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DEF9B-3DE0-40FA-BDE8-5709DF62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F918E-6770-4C8C-9EE3-8DB1B293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821E6-2D64-43D5-B676-7086834B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694EA-0CB6-42E4-B0EA-16A11DBE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E9EBB-28CC-4ACE-8B09-68FCB028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A0C9D-72CE-40FE-9122-FD746799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249DB-B529-48A8-9336-28481F5C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18EE-703A-4E75-8C30-09F1F37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DBA-141B-4BCA-A46D-9ECFCEE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26A3F-6A0E-4B52-8BA2-F85EB6EA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4B9F2-A9E8-4757-AAA9-A5B55CAD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B14E6-CE8A-4283-BFC3-EDFBCB31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89BB3-24CB-473C-9F95-1BBB97E0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F3C81-7CA2-43B6-8BC5-61C60C83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4C98D-6002-437E-997C-F7631660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BE002-C92F-433E-981D-2DCD3474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D0612-7F24-408A-9ED0-D34D0A37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47D80-F6D9-4B7C-ABA0-289E9464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F14C8-B327-4551-B613-C152F007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F4C-731D-4A68-B212-119F41C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E8377-629F-43EA-BCF4-4894460F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B2A4A-FEC8-4E23-A02C-F5CA7F32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9BF2E-960C-4990-ADF1-AD8A4BE5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ADBFB-9653-4245-A944-3AB93CAB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71269-E683-408D-9A08-DA6776D3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29F5D-B369-445C-8D3A-7903850C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84F17-6BBC-4EF5-B0B6-79D46219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31753-D38C-4229-AC54-C3FF8489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7B964-5AB1-4BF2-A5C6-9A44F8C1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503C5-3135-4632-9CC3-41BCF915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DF1-FF0E-416C-9C4A-B9E7CB7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8625A-BB24-4D0A-A081-7FDCB8C4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1737B-F87D-497C-9658-CABCF372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9876E-86F5-4902-9975-7FA5720D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B51F6-21B8-45C3-9877-D7D8418F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2B064-F29E-400D-BC6A-7830657A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BA9C0-AA10-485B-8BAD-31DEEC3C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0F11C-CA08-45E5-A3BF-15E13C4F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2810C-BE44-4596-9C5F-9F17A60D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BBB4E-545C-4AB1-AD11-6D04DFFB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47210-5A19-4E00-AC16-3DB0323D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FDA9-2AD9-40A5-B99B-CA6439E99E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BE24-1FDA-4C73-A4A7-05C91A2F8A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9AC7-E291-4128-86AC-5D3C338137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4906-AE45-436C-8FB9-88EB9DBFB9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5812-B60C-4845-9652-D3FC928F0A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5592-7C0D-4F06-A2AA-1ACB3CE226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3E4C-A801-470D-ABBD-3A6650226B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2A8C-7F39-4CFD-A133-7B7E7BFE03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5A99-2E29-4247-B0AE-78ECCCEB3D5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Структура заболеваемости насел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Некоторые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Новообразов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нервной системы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органов дых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сещение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бращение –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 причинам смертности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лавное требование: правильно указать причину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ельдшерская справка не может быть использован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нкетирова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баллам;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утем субъективного сравнения со здоровьем других лиц данного возраста и пола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оспитализированная заболеваемость. Учетная форма – карта выбывшего из стационар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иболее часто используют 4 группы показателей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уровень первичной заболеваемости за год на 100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уровень первичной общей заболеваемости на 1000 ч-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структура заболеваем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Кратность заболеваний – число заболеваний на 1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болеваемость – ведущий показатель общественного здоровья.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сточники информации о заболеваемости.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Литератур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целом за последние 5 лет возрастает смертность практически от всех прич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де впервые классифицировали болезн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то такое МКБ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МКБ была впервые сформулирована? Как она называлась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была утверждена МКБ – 10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огда МКБ вступила в действи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зовите 3 основных вида заболев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ечислите виды заболеваемости по обращ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2 метода существуют в изучении общей заболеваемост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5 болезней и поражений являются основными причинами смертей в Росс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AutoShape 2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0000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Древний Китай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10 вступила в силу с 01.01.93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AutoShape 7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 класс 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2 класс – Новообразов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3 класс – Болезни эндокринной системы, расстройства питания и нарушение обмен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4 класс – Болезни крови и кроветворных орган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5 класс – Психические расстройств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6 класс – Болезни нервной системы  и органов чувст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7 класс – Болезни органов кровообращ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8 класс – Болезни органов дых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9 класс – Болезни органов пищевар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0 класс – Болезни мочеполовой систе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1 класс - Осложнения беременности, родов и послеродового период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2 класс – Болезни кожи и подкожной клетчатк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3 класс – Болезни костно – мышечной системы и соединительной тка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4 класс – Врожденные аномалии, пороки развит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6 класс  – Симптомы, признаки и неточно обозначенные состоя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7 класс – Несчастные случаи, отравления и трав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2:24:56Z</dcterms:created>
  <dc:creator>User</dc:creator>
  <dc:description/>
  <dc:language>en-US</dc:language>
  <cp:lastModifiedBy>RomaK</cp:lastModifiedBy>
  <dcterms:modified xsi:type="dcterms:W3CDTF">2014-10-31T12:56:57Z</dcterms:modified>
  <cp:revision>10</cp:revision>
  <dc:subject/>
  <dc:title>ЗАБОЛЕВАЕМОСТЬ – ВЕДУЩИЙ ПОКАЗАТЕЛЬ ОБЩЕСТВЕННОГО ЗДОРОВЬЯ</dc:title>
</cp:coreProperties>
</file>